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95E0-DF1E-4A8E-888B-4670AAE7D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29E6-E121-46F4-A105-4794083B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D07-BA3A-4CA9-91CB-B46FDF9B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779-D461-4207-AC02-067F653A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D7A-9F3C-4DC1-B55E-8C42F393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938-B830-4FFD-B94A-DC08332D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C76-63BB-4361-A3AE-FA429923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FA9-91A3-4005-8024-95DE9807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D6D-B58C-4754-9A0A-3C6F4602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914-B49C-40C7-AD96-93276858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96E5-39AD-4CAC-B813-D6E6F4C4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EA3-1B16-435A-A4DE-F92C6B77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527D-8333-42D7-AED5-839E87B5F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0178"/>
          <p:cNvSpPr txBox="1"/>
          <p:nvPr/>
        </p:nvSpPr>
        <p:spPr>
          <a:xfrm>
            <a:off x="4284720" y="977760"/>
            <a:ext cx="2663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2600">
                  <a:solidFill>
                    <a:srgbClr val="ff3300"/>
                  </a:solidFill>
                  <a:round/>
                </a:ln>
                <a:gradFill rotWithShape="0">
                  <a:gsLst>
                    <a:gs pos="0">
                      <a:srgbClr val="cc0066"/>
                    </a:gs>
                    <a:gs pos="100000">
                      <a:srgbClr val="5e002f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Times New Roman"/>
              </a:rPr>
              <a:t>Unit 3</a:t>
            </a:r>
            <a:endParaRPr b="1" lang="en-US" sz="3600" spc="1" strike="noStrike">
              <a:ln w="12600">
                <a:solidFill>
                  <a:srgbClr val="ff3300"/>
                </a:solidFill>
                <a:round/>
              </a:ln>
              <a:gradFill rotWithShape="0">
                <a:gsLst>
                  <a:gs pos="0">
                    <a:srgbClr val="cc0066"/>
                  </a:gs>
                  <a:gs pos="100000">
                    <a:srgbClr val="5e002f"/>
                  </a:gs>
                </a:gsLst>
                <a:lin ang="5400000"/>
              </a:grad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3316"/>
          <p:cNvSpPr/>
          <p:nvPr/>
        </p:nvSpPr>
        <p:spPr>
          <a:xfrm>
            <a:off x="360360" y="1090440"/>
            <a:ext cx="84247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ar Tom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31640" y="1692360"/>
            <a:ext cx="83883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How are you? Thank you for your last e-mail.  I know how you get to school. Now let me tell you how I get to school.</a:t>
            </a:r>
            <a:r>
              <a:rPr b="1" lang="en-US" sz="36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usually leave home at half past six. First, I walk to the bus stop. Then I take the bus to school. My school is about ten kilometers from my home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361800" y="333360"/>
            <a:ext cx="5112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ne possible ver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57345"/>
          <p:cNvSpPr/>
          <p:nvPr/>
        </p:nvSpPr>
        <p:spPr>
          <a:xfrm>
            <a:off x="395280" y="1422360"/>
            <a:ext cx="8424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819000" y="676440"/>
            <a:ext cx="81727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 usually takes me about half an hour to get to school. I usually meets many friends on the bus. So my trip is interesting , too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1"/>
          <p:cNvSpPr/>
          <p:nvPr/>
        </p:nvSpPr>
        <p:spPr>
          <a:xfrm>
            <a:off x="2014560" y="692280"/>
            <a:ext cx="7129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 the words in the boxes to form as many expressions as possible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2"/>
          <p:cNvSpPr/>
          <p:nvPr/>
        </p:nvSpPr>
        <p:spPr>
          <a:xfrm>
            <a:off x="971640" y="1125360"/>
            <a:ext cx="792000" cy="668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矩形 22" descr=""/>
          <p:cNvPicPr/>
          <p:nvPr/>
        </p:nvPicPr>
        <p:blipFill>
          <a:blip r:embed="rId2"/>
          <a:srcRect l="0" t="14780" r="0" b="0"/>
          <a:stretch/>
        </p:blipFill>
        <p:spPr>
          <a:xfrm>
            <a:off x="179280" y="0"/>
            <a:ext cx="3888000" cy="1258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250920" y="2421000"/>
            <a:ext cx="2376360" cy="1245960"/>
          </a:xfrm>
          <a:prstGeom prst="rect">
            <a:avLst/>
          </a:prstGeom>
          <a:solidFill>
            <a:srgbClr val="ff3399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ake, walk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ide, driv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4437000"/>
            <a:ext cx="2843280" cy="1944720"/>
          </a:xfrm>
          <a:prstGeom prst="rect">
            <a:avLst/>
          </a:prstGeom>
          <a:solidFill>
            <a:srgbClr val="008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bus, train, car, bike, plane, subway, boat 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250920" y="3716280"/>
            <a:ext cx="2376360" cy="649440"/>
          </a:xfrm>
          <a:prstGeom prst="rect">
            <a:avLst/>
          </a:prstGeom>
          <a:solidFill>
            <a:srgbClr val="80008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2987640" y="2349360"/>
            <a:ext cx="60102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ke a bus, by bus, ______________________________________________________________________________________________________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987640" y="595620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 a boat, by boat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3059280" y="3867120"/>
            <a:ext cx="41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ide a bike, by bik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2940120" y="5300640"/>
            <a:ext cx="602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 the subway, by subw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3059280" y="3141720"/>
            <a:ext cx="49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 a train, by trai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3038400" y="4508640"/>
            <a:ext cx="54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 the plane, by pla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7372440" y="5956200"/>
            <a:ext cx="14475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l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324000" y="5043600"/>
            <a:ext cx="8713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ow does Tony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___________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324000" y="5672160"/>
            <a:ext cx="720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e gets to school by bike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720720" y="189000"/>
            <a:ext cx="845964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at the chart below. Write at least five questions. Then answer the questions with the information in the chart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2"/>
          <p:cNvSpPr/>
          <p:nvPr/>
        </p:nvSpPr>
        <p:spPr>
          <a:xfrm>
            <a:off x="34920" y="422280"/>
            <a:ext cx="6127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09520" y="2260440"/>
          <a:ext cx="8899560" cy="2828880"/>
        </p:xfrm>
        <a:graphic>
          <a:graphicData uri="http://schemas.openxmlformats.org/drawingml/2006/table">
            <a:tbl>
              <a:tblPr/>
              <a:tblGrid>
                <a:gridCol w="1155600"/>
                <a:gridCol w="2552760"/>
                <a:gridCol w="1505160"/>
                <a:gridCol w="1617480"/>
                <a:gridCol w="20685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Who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Where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How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How far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How long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Tony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from home to school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by bike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5 km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20 minute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Mary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from home to the library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by bu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15 km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40 minutes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682560" y="836640"/>
            <a:ext cx="7561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ossible questions and answers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44360" y="1689120"/>
            <a:ext cx="882036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How far is it from Tony’s home to school? ____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How long does it take Tony to get to school? ____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How does Mary get to scho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647640" y="4941720"/>
            <a:ext cx="7812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e gets to the library by b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611280" y="2349360"/>
            <a:ext cx="5832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seven kilome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2185920" y="3645000"/>
            <a:ext cx="5626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 takes about ten minut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611280" y="1197000"/>
            <a:ext cx="75960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How far is it from Mary’s home to the library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9280" indent="-44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How long does it take Mary to get to school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1149480" y="2505240"/>
            <a:ext cx="5903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about fifteen kilome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1116000" y="4491000"/>
            <a:ext cx="61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 takes about forty minut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403280" y="2284560"/>
            <a:ext cx="575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ow does Tony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5640" y="3000240"/>
            <a:ext cx="7561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ny is my good friend. He lives about seven kilometers from school. He usually gets to school by bike. It usually takes about ten minut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矩形 6" descr=""/>
          <p:cNvPicPr/>
          <p:nvPr/>
        </p:nvPicPr>
        <p:blipFill>
          <a:blip r:embed="rId2"/>
          <a:srcRect l="0" t="24164" r="0" b="0"/>
          <a:stretch/>
        </p:blipFill>
        <p:spPr>
          <a:xfrm>
            <a:off x="324000" y="620640"/>
            <a:ext cx="3960720" cy="1600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754200" y="1409760"/>
            <a:ext cx="6769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ow does Mary get to the library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82560" y="2271600"/>
            <a:ext cx="82821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ry is my good friend. 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754200" y="2274840"/>
            <a:ext cx="8100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e lives about fifteen kilometers from the library. She usually takes the bus to the library. It takes about forty minutes to get to the library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内容占位符 2"/>
          <p:cNvSpPr/>
          <p:nvPr/>
        </p:nvSpPr>
        <p:spPr>
          <a:xfrm>
            <a:off x="324000" y="1052640"/>
            <a:ext cx="7200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id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旅程；旅行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us ride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汽车旅程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rain ride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火车旅程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ubway ride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地铁旅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y bus ride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very boring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公共汽车旅程很无聊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train ride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kes us five hours.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火车旅程花费了我们五个小时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矩形 19459"/>
          <p:cNvSpPr txBox="1"/>
          <p:nvPr/>
        </p:nvSpPr>
        <p:spPr>
          <a:xfrm>
            <a:off x="1790640" y="189000"/>
            <a:ext cx="55627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ff66cc"/>
                  </a:solidFill>
                  <a:round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Language points</a:t>
            </a:r>
            <a:endParaRPr b="1" lang="en-US" sz="3600" spc="1" strike="noStrike">
              <a:ln w="19080">
                <a:solidFill>
                  <a:srgbClr val="ff66cc"/>
                </a:solidFill>
                <a:round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>
    <p:plus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6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45800" y="1539720"/>
            <a:ext cx="8459640" cy="43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--- _____ do you get to scho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 I walk but sometimes I ____ the b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--- ____ _____ does it ta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 It _____ about 30 minutes ____ ____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10 minutes ___ _____.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走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钟坐公交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矩形 6" descr=""/>
          <p:cNvPicPr/>
          <p:nvPr/>
        </p:nvPicPr>
        <p:blipFill>
          <a:blip r:embed="rId2"/>
          <a:srcRect l="6525" t="28839" r="26079" b="0"/>
          <a:stretch/>
        </p:blipFill>
        <p:spPr>
          <a:xfrm>
            <a:off x="287280" y="500040"/>
            <a:ext cx="2916360" cy="1177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1692360" y="3500280"/>
            <a:ext cx="122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262160" y="1557360"/>
            <a:ext cx="122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1260360" y="2852640"/>
            <a:ext cx="2233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 lo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726160" y="2205000"/>
            <a:ext cx="1295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214880" y="4221000"/>
            <a:ext cx="251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y   bu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518160" y="3500280"/>
            <a:ext cx="216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n    foo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2916360" y="733320"/>
            <a:ext cx="619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填上正确的单词，补全对话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1"/>
          <p:cNvSpPr/>
          <p:nvPr/>
        </p:nvSpPr>
        <p:spPr>
          <a:xfrm>
            <a:off x="2590920" y="541008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2819520" y="548640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13"/>
          <p:cNvSpPr txBox="1"/>
          <p:nvPr/>
        </p:nvSpPr>
        <p:spPr>
          <a:xfrm>
            <a:off x="193680" y="4730760"/>
            <a:ext cx="87375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宋体"/>
              </a:rPr>
              <a:t>How do you get to school?</a:t>
            </a:r>
            <a:endParaRPr b="0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pic>
        <p:nvPicPr>
          <p:cNvPr id="45" name="矩形 44" descr=""/>
          <p:cNvPicPr/>
          <p:nvPr/>
        </p:nvPicPr>
        <p:blipFill>
          <a:blip r:embed="rId2"/>
          <a:stretch/>
        </p:blipFill>
        <p:spPr>
          <a:xfrm>
            <a:off x="587520" y="250920"/>
            <a:ext cx="3306600" cy="1154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school bus"/>
          <p:cNvPicPr/>
          <p:nvPr/>
        </p:nvPicPr>
        <p:blipFill>
          <a:blip r:embed="rId3"/>
          <a:stretch/>
        </p:blipFill>
        <p:spPr>
          <a:xfrm>
            <a:off x="7353360" y="117360"/>
            <a:ext cx="1790640" cy="1871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433440" y="1181160"/>
            <a:ext cx="80992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--- ____ ___ is it _____ your home t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 It’s three mi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--- _____ _____ does it take you from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me to school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 It _____ twenty minut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47640" y="3166920"/>
            <a:ext cx="4869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  lo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563840" y="1181160"/>
            <a:ext cx="4303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fa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210200" y="1181160"/>
            <a:ext cx="2809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r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1936800" y="4492800"/>
            <a:ext cx="2995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68360" y="2060640"/>
            <a:ext cx="3961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妈妈如何去你姥姥家。请你根据实际情况，来写一下她的出行情况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矩形 23559"/>
          <p:cNvSpPr txBox="1"/>
          <p:nvPr/>
        </p:nvSpPr>
        <p:spPr>
          <a:xfrm>
            <a:off x="2700360" y="404640"/>
            <a:ext cx="374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008000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Homework</a:t>
            </a:r>
            <a:endParaRPr b="1" lang="en-US" sz="3600" spc="1" strike="noStrike">
              <a:ln w="19080">
                <a:solidFill>
                  <a:srgbClr val="008000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79280" y="2133720"/>
            <a:ext cx="8675640" cy="37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rst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ak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xt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gets t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n, Finally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takes abou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inutes /hou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’s abou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kilometers / mi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us ride take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inutes / hou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95000" y="1341360"/>
            <a:ext cx="4651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Useful expressions: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685800" y="907920"/>
            <a:ext cx="761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Thank you very much!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97 -0.03122 C -0.05 -0.00717 0.0276 0.11471 0.04965 0.11494 C 0.0717 0.11563 0.05972 0.000920000000000001 0.06232 -0.02914 E">
                                      <p:cBhvr>
                                        <p:cTn id="647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dArt 5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6723000" cy="25984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1345680" y="5481720"/>
            <a:ext cx="5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Comic Sans MS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8000" y="2997000"/>
            <a:ext cx="8964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, Peter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are you? Thank you for your last e-mail. You want to know how I _____ school, right? Well, I usually ______ my home at about 8:00 and _____ to the bus stop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68360" y="2346480"/>
            <a:ext cx="8496360" cy="630000"/>
          </a:xfrm>
          <a:prstGeom prst="rect">
            <a:avLst/>
          </a:prstGeom>
          <a:solidFill>
            <a:srgbClr val="cc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lometers   get to   takes   walk   boring   lea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084720" y="4334040"/>
            <a:ext cx="2227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get to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3205080" y="5662440"/>
            <a:ext cx="2227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alk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4500720" y="5013360"/>
            <a:ext cx="2089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2"/>
          <p:cNvSpPr/>
          <p:nvPr/>
        </p:nvSpPr>
        <p:spPr>
          <a:xfrm>
            <a:off x="755640" y="1197000"/>
            <a:ext cx="900000" cy="801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2014560" y="442800"/>
            <a:ext cx="70200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Read the e-mail from your pen pal Tom in the US. Fill in the blanks with the words in the box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矩形 14" descr=""/>
          <p:cNvPicPr/>
          <p:nvPr/>
        </p:nvPicPr>
        <p:blipFill>
          <a:blip r:embed="rId2"/>
          <a:srcRect l="9773" t="19174" r="7790" b="10445"/>
          <a:stretch/>
        </p:blipFill>
        <p:spPr>
          <a:xfrm>
            <a:off x="34920" y="189000"/>
            <a:ext cx="2087640" cy="10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50920" y="642960"/>
            <a:ext cx="87487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chool bus usually comes at about 8:15. My school is about 20 __________ from my home. It _____ about 40 minutes to get there by bus. The bus ride is never _______ because I always talk to my classmat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bout you? How do you get to school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165800" y="2557440"/>
            <a:ext cx="1727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or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图片 51208" descr="18"/>
          <p:cNvPicPr/>
          <p:nvPr/>
        </p:nvPicPr>
        <p:blipFill>
          <a:blip r:embed="rId2"/>
          <a:stretch/>
        </p:blipFill>
        <p:spPr>
          <a:xfrm>
            <a:off x="4356000" y="4869000"/>
            <a:ext cx="2592360" cy="1849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1"/>
          <p:cNvSpPr/>
          <p:nvPr/>
        </p:nvSpPr>
        <p:spPr>
          <a:xfrm>
            <a:off x="4643280" y="1292400"/>
            <a:ext cx="2374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kilomet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050920" y="1940040"/>
            <a:ext cx="1366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Oval 2"/>
          <p:cNvSpPr/>
          <p:nvPr/>
        </p:nvSpPr>
        <p:spPr>
          <a:xfrm>
            <a:off x="792000" y="1268280"/>
            <a:ext cx="9003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2124000" y="333360"/>
            <a:ext cx="6769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Write an e-mail to Tom and tell him how you get to school. These question may help you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矩形 12" descr=""/>
          <p:cNvPicPr/>
          <p:nvPr/>
        </p:nvPicPr>
        <p:blipFill>
          <a:blip r:embed="rId2"/>
          <a:srcRect l="9639" t="21246" r="12820" b="19953"/>
          <a:stretch/>
        </p:blipFill>
        <p:spPr>
          <a:xfrm>
            <a:off x="106200" y="404640"/>
            <a:ext cx="2017800" cy="720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250920" y="2373480"/>
            <a:ext cx="864216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do you leave home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How do you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How far is it from your home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long does it take you to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 you like your trip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矩形 2" descr=""/>
          <p:cNvPicPr/>
          <p:nvPr/>
        </p:nvPicPr>
        <p:blipFill>
          <a:blip r:embed="rId2"/>
          <a:stretch/>
        </p:blipFill>
        <p:spPr>
          <a:xfrm>
            <a:off x="3094200" y="446040"/>
            <a:ext cx="3109680" cy="847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144360" y="1324080"/>
            <a:ext cx="8891640" cy="31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先根据自己的实际情况回答五个提示问题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将五个答语连成一段连贯的文字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适当发挥自己的想象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写出其他可能的句子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的写作格式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先向对方进行问候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或客套。然后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将以上文字整理成一篇小信件。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最后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再通读一遍自己的作品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看有没有错误或不通顺的地方。就大功告成了！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61800" y="2054160"/>
            <a:ext cx="81709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do you leave home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do you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矩形 2" descr=""/>
          <p:cNvPicPr/>
          <p:nvPr/>
        </p:nvPicPr>
        <p:blipFill>
          <a:blip r:embed="rId2"/>
          <a:stretch/>
        </p:blipFill>
        <p:spPr>
          <a:xfrm>
            <a:off x="1663560" y="1192320"/>
            <a:ext cx="6140520" cy="74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1009800" y="3962520"/>
            <a:ext cx="74516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irst I walk to the subway station. Then, I get to school by subway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矩形 12296"/>
          <p:cNvSpPr/>
          <p:nvPr/>
        </p:nvSpPr>
        <p:spPr>
          <a:xfrm>
            <a:off x="900000" y="2708280"/>
            <a:ext cx="7020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leave home at half past sev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08000" y="1211400"/>
            <a:ext cx="88200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far is it from your home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long does it take you to get to school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How is your trip to school? ___________________________________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11280" y="1932120"/>
            <a:ext cx="6804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about ten kilometer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684360" y="3298680"/>
            <a:ext cx="73609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 takes about half an hou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631800" y="4740120"/>
            <a:ext cx="40114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’s interesting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7:54:59Z</dcterms:created>
  <dc:creator/>
  <dc:description/>
  <dc:language>en-US</dc:language>
  <cp:lastModifiedBy>Administrator</cp:lastModifiedBy>
  <dcterms:modified xsi:type="dcterms:W3CDTF">2018-03-16T01:37:29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2</vt:lpwstr>
  </property>
</Properties>
</file>